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459-96EC-4E21-B05D-AF73C5A2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263-92BD-483D-86B7-C8DC9817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053-C957-4EB2-A723-EFCAAC50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E38-F662-4029-B4AC-3BB1AD4D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65A-B8BD-4B0B-8D3A-0F04FF9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10EE-7130-4AC7-A2C5-B7E4EF8F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EA3-6BD3-41A5-916D-364D0E31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9C73-07D3-4254-BB8F-6A69091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977-D17F-4CA2-B7D5-7445D2B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2C5-F832-4E62-875C-39F91B0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63A-960B-4411-9E3E-5FF298FD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A4E-EA25-419A-88CE-F9B235AF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2660-EEC6-4AA9-98EA-92F7E95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904-73C1-4752-ACDF-4027824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82B-3032-429F-BFD5-CE0F648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86C2-2E80-415D-9EFF-3A905F9C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A9AE-D446-4179-9871-7B4DACD4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9E5E-FF8F-4F51-8EFE-F0ABFF37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C42C-B946-44E4-B8EC-7776F96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17A1-0B92-4C1E-A1B9-85D92E6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7A23-3D0E-4E94-8AD4-BFE0E9D3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9285-F42E-48BD-9EFF-E907ED2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113-7711-46DF-8975-2FEF799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F49A-D957-414C-A914-D2B661A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A014-2137-4DC5-86A3-4836B67D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10B1-707F-41C1-BFEF-0B17A16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3741-302E-4B28-917F-08B0156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67A2-9C17-46E3-BC7A-CC564760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E6CF-2489-4548-8B53-7404CDDE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BF9B-107E-416B-89C2-7196BB2C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84A9-936C-4C2A-8791-78EA01D8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C9339-9F16-4388-88A7-D5F045C3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BE22-D6AF-437A-8760-03C64E9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CB2-7E2B-499F-B2A1-73C5BF5D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F773-958E-4007-AF70-709D089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786A-74A8-4A10-BD5C-8EA47A8C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5643-53F4-4A58-9093-55BD96C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B57C-69D5-4539-9FAD-4D1BED2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F6D4-66CC-4835-9C73-C495E9B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F2DF-348C-49B9-9B3C-CC1B4D4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890C-4059-4904-89B9-6A6E914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3403-6E0E-4C43-872F-39C39185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A5A4-3F82-456E-A94C-363D6AC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46D0-75C3-46E7-BE2E-20C458F6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8ED-FDE7-4B4A-8171-3725CA2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AAFF-6C76-445E-AA9F-CA5EE7D7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6456-4674-4414-92D8-FBE4D15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6BE9-033C-44C2-860A-C29FFEE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4554-4009-4A9A-9147-62F5FF7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F240-094C-41B7-9525-7C80269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44D79-B2F8-455C-8301-39EE939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0416-C656-4E85-A7B1-E79F511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9FD4-8295-4452-9DDE-0C1182F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799F-5261-4C24-83D1-74C2ED73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D3B22-48C0-46C7-88D8-1AD38C25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D61-BA3B-4555-A6DF-E02668C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FF1E-B3F4-4793-864A-F453E98A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934F-3F79-49EE-9CE5-A0FD2833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6D5F-9148-4100-8BF0-C4D31CDF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6DB5-8098-49D8-9CB4-D6F7780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AB61-7269-4108-B492-F0B50581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4E4C-16D5-4398-9BD7-FC399C5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50A0-92FD-401F-B4D1-E894865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B99A-DAF2-4ACD-93FD-4FF0BAD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83A2-8A49-4155-9406-E8001F4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1097-E826-4E70-B8D8-527B830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63A-4344-47C4-ADDA-2C6A4CF3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1F13C-E540-432A-9153-FB6AA33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6FED-E854-4C4B-A7CF-54E7EEC9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EA6F-1E2B-40D1-BEDE-23ECD528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95D7-022E-452F-B8B4-E6CE9E6D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5D1F0-B8D9-4B1F-8C22-2F47F60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30B8-8821-43E3-A0BF-672DD5DA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7B0A-2F2D-4152-B592-8E6D35B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49FF-BEDB-44FF-94C7-54702957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E65E6-60DD-4C87-B555-F6D7033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E0E9-F1A5-4368-8DB2-66D1D1B9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B35-2FAD-49F9-B300-D63E3BF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74209-C520-46F5-AF09-5B1875E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9CB66-794F-4649-8064-FE156CC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2211-BF9B-4376-9D40-88CB788E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A60C-8AA3-4D6A-BC66-3AD75339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7798-1C1A-4E76-86A7-7A21CC73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FCF-DA52-4701-9CAA-90083B38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8E53-2A6E-4342-AC25-3FB2B236C5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5BD-DF54-46A8-A978-87804ABB7B0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EF14-F008-454C-A1B2-DA51D7D584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917-69E5-4029-BC73-EC6F375AECC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7C78-CB6A-4270-875B-6A5E0C4F21F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B924-767A-41A5-9094-E1E30435C09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6670-1921-48AC-A7FF-B70EF9B80DD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620200" cy="2249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3809520" y="40381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7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 Grade- Math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By: Michelle Dawson Francois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4" descr="http://visalia.k12.ca.us/teachers/kprice/Math%20girl.gif"/>
          <p:cNvPicPr/>
          <p:nvPr/>
        </p:nvPicPr>
        <p:blipFill>
          <a:blip r:embed="rId2"/>
          <a:stretch/>
        </p:blipFill>
        <p:spPr>
          <a:xfrm>
            <a:off x="533520" y="1828800"/>
            <a:ext cx="2819160" cy="4245120"/>
          </a:xfrm>
          <a:prstGeom prst="rect">
            <a:avLst/>
          </a:prstGeom>
          <a:ln w="0">
            <a:noFill/>
          </a:ln>
        </p:spPr>
      </p:pic>
      <p:sp>
        <p:nvSpPr>
          <p:cNvPr id="304" name="Content Placeholder 2"/>
          <p:cNvSpPr/>
          <p:nvPr/>
        </p:nvSpPr>
        <p:spPr>
          <a:xfrm>
            <a:off x="533520" y="52578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522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visalia.k12.ca.us/teachers/kprice/5th%20math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410" name="Content Placeholder 25"/>
          <p:cNvGrpSpPr/>
          <p:nvPr/>
        </p:nvGrpSpPr>
        <p:grpSpPr>
          <a:xfrm>
            <a:off x="457200" y="4343400"/>
            <a:ext cx="8229600" cy="1368360"/>
            <a:chOff x="457200" y="4343400"/>
            <a:chExt cx="8229600" cy="1368360"/>
          </a:xfrm>
        </p:grpSpPr>
        <p:sp>
          <p:nvSpPr>
            <p:cNvPr id="411" name="Line 5"/>
            <p:cNvSpPr/>
            <p:nvPr/>
          </p:nvSpPr>
          <p:spPr>
            <a:xfrm>
              <a:off x="896040" y="458640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1431360" y="506916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2140200" y="506916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2849040" y="506916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3530520" y="507276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4268520" y="506916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4994280" y="507276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2"/>
            <p:cNvSpPr/>
            <p:nvPr/>
          </p:nvSpPr>
          <p:spPr>
            <a:xfrm>
              <a:off x="5686560" y="506916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3"/>
            <p:cNvSpPr/>
            <p:nvPr/>
          </p:nvSpPr>
          <p:spPr>
            <a:xfrm>
              <a:off x="6395400" y="506916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4"/>
            <p:cNvSpPr/>
            <p:nvPr/>
          </p:nvSpPr>
          <p:spPr>
            <a:xfrm>
              <a:off x="7106040" y="506916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5"/>
            <p:cNvSpPr/>
            <p:nvPr/>
          </p:nvSpPr>
          <p:spPr>
            <a:xfrm>
              <a:off x="7775280" y="4748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15044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7"/>
            <p:cNvSpPr/>
            <p:nvPr/>
          </p:nvSpPr>
          <p:spPr>
            <a:xfrm>
              <a:off x="22132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8"/>
            <p:cNvSpPr/>
            <p:nvPr/>
          </p:nvSpPr>
          <p:spPr>
            <a:xfrm>
              <a:off x="2945160" y="436356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9"/>
            <p:cNvSpPr/>
            <p:nvPr/>
          </p:nvSpPr>
          <p:spPr>
            <a:xfrm>
              <a:off x="363132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0"/>
            <p:cNvSpPr/>
            <p:nvPr/>
          </p:nvSpPr>
          <p:spPr>
            <a:xfrm>
              <a:off x="434196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505080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57596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64684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179120" y="434340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26"/>
            <p:cNvSpPr/>
            <p:nvPr/>
          </p:nvSpPr>
          <p:spPr>
            <a:xfrm>
              <a:off x="457200" y="4991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74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he nearest ten to 74 is 7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3" name="Straight Arrow Connector 50"/>
          <p:cNvCxnSpPr/>
          <p:nvPr/>
        </p:nvCxnSpPr>
        <p:spPr>
          <a:xfrm flipH="1">
            <a:off x="3833280" y="3580920"/>
            <a:ext cx="5328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434" name="Oval 47"/>
          <p:cNvSpPr/>
          <p:nvPr/>
        </p:nvSpPr>
        <p:spPr>
          <a:xfrm>
            <a:off x="380880" y="4038480"/>
            <a:ext cx="838440" cy="1905120"/>
          </a:xfrm>
          <a:prstGeom prst="ellipse">
            <a:avLst/>
          </a:prstGeom>
          <a:noFill/>
          <a:ln w="7632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99840"/>
            <a:ext cx="624816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Number your paper 1-5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Round the given number to the nearest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Remember the rule and use it to help you solve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Get Ready…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Picture 4" descr="http://coe.jmu.edu/learningtoolbox/images/numberedPaper.gif"/>
          <p:cNvPicPr/>
          <p:nvPr/>
        </p:nvPicPr>
        <p:blipFill>
          <a:blip r:embed="rId2"/>
          <a:stretch/>
        </p:blipFill>
        <p:spPr>
          <a:xfrm>
            <a:off x="6308640" y="1905120"/>
            <a:ext cx="2683080" cy="3352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6248520" y="5324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coe.jmu.edu/learningtoolbox/images/numberedPaper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-311040" y="298440"/>
            <a:ext cx="9686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40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4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3" name="Straight Arrow Connector 50"/>
          <p:cNvCxnSpPr/>
          <p:nvPr/>
        </p:nvCxnSpPr>
        <p:spPr>
          <a:xfrm flipH="1">
            <a:off x="45702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65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66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2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Straight Arrow Connector 50"/>
          <p:cNvCxnSpPr/>
          <p:nvPr/>
        </p:nvCxnSpPr>
        <p:spPr>
          <a:xfrm flipH="1">
            <a:off x="739116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90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9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Straight Arrow Connector 50"/>
          <p:cNvCxnSpPr/>
          <p:nvPr/>
        </p:nvCxnSpPr>
        <p:spPr>
          <a:xfrm flipH="1">
            <a:off x="31986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515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516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Straight Arrow Connector 50"/>
          <p:cNvCxnSpPr/>
          <p:nvPr/>
        </p:nvCxnSpPr>
        <p:spPr>
          <a:xfrm flipH="1">
            <a:off x="59418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540" name="Content Placeholder 25"/>
          <p:cNvGrpSpPr/>
          <p:nvPr/>
        </p:nvGrpSpPr>
        <p:grpSpPr>
          <a:xfrm>
            <a:off x="457200" y="4648320"/>
            <a:ext cx="8381880" cy="1368000"/>
            <a:chOff x="457200" y="4648320"/>
            <a:chExt cx="8381880" cy="1368000"/>
          </a:xfrm>
        </p:grpSpPr>
        <p:sp>
          <p:nvSpPr>
            <p:cNvPr id="54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710568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7775280" y="5373360"/>
              <a:ext cx="106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20"/>
            <p:cNvSpPr/>
            <p:nvPr/>
          </p:nvSpPr>
          <p:spPr>
            <a:xfrm>
              <a:off x="43416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9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3" name="Straight Arrow Connector 50"/>
          <p:cNvCxnSpPr/>
          <p:nvPr/>
        </p:nvCxnSpPr>
        <p:spPr>
          <a:xfrm flipH="1">
            <a:off x="243648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. Round 5 to 10 – answer 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2. Round 19 to 20 – answer 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3. Round 73 to 70 – answer 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. Round 77 to 80 – answer 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. Round 92 to 90 – answer 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66" name="Picture 4" descr="http://upload.wikimedia.org/wikipedia/commons/thumb/e/eb/Blue_check.svg/600px-Blue_check.svg.png"/>
          <p:cNvPicPr/>
          <p:nvPr/>
        </p:nvPicPr>
        <p:blipFill>
          <a:blip r:embed="rId2"/>
          <a:stretch/>
        </p:blipFill>
        <p:spPr>
          <a:xfrm>
            <a:off x="4800600" y="76320"/>
            <a:ext cx="2298600" cy="22986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5"/>
          <p:cNvSpPr/>
          <p:nvPr/>
        </p:nvSpPr>
        <p:spPr>
          <a:xfrm>
            <a:off x="6705720" y="380880"/>
            <a:ext cx="220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upload.wikimedia.org/wikipedia/commons/thumb/e/eb/Blue_check.svg/600px-Blue_check.svg.p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Title 1" descr=""/>
          <p:cNvPicPr/>
          <p:nvPr/>
        </p:nvPicPr>
        <p:blipFill>
          <a:blip r:embed="rId1"/>
          <a:stretch/>
        </p:blipFill>
        <p:spPr>
          <a:xfrm>
            <a:off x="225360" y="244440"/>
            <a:ext cx="2494080" cy="1060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Essential Question: How can rounding help me solve a difficult problem?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Answer- Rounding gives us an answer close to the correct one which helps us solve hard problems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Your answer will be a multiples of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0, 10, 20, 30, 40, 50, 60, 70, 80, 90,100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70" name="Picture 2" descr="http://journal.media-culture.org.au/0510/images/review-cover.jpg"/>
          <p:cNvPicPr/>
          <p:nvPr/>
        </p:nvPicPr>
        <p:blipFill>
          <a:blip r:embed="rId2"/>
          <a:srcRect l="0" t="25315" r="0" b="35748"/>
          <a:stretch/>
        </p:blipFill>
        <p:spPr>
          <a:xfrm>
            <a:off x="2197080" y="380880"/>
            <a:ext cx="3289320" cy="9144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4"/>
          <p:cNvSpPr/>
          <p:nvPr/>
        </p:nvSpPr>
        <p:spPr>
          <a:xfrm>
            <a:off x="1447920" y="6324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journal.media-culture.org.au/0510/images/review-cove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9173880" cy="14079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rule to rounding- 0, 1, 2, 3, 4- round down, 5, 6,7, 8, 9 – round up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nd your numb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ook right next doo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 or less just ignor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 or more, add 1 more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201600"/>
            <a:ext cx="8583840" cy="1468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M1N1. Students will estimate, model, compare, order, and represent whole numbers up to 100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d. Understand the magnitude and order of numbers up to 100 by making ordered sequences and representing them on a number line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How can rounding help me solve a difficult problem?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2" descr="http://edtech.kennesaw.edu/gps/final_doe_logo.gif"/>
          <p:cNvPicPr/>
          <p:nvPr/>
        </p:nvPicPr>
        <p:blipFill>
          <a:blip r:embed="rId2"/>
          <a:stretch/>
        </p:blipFill>
        <p:spPr>
          <a:xfrm>
            <a:off x="5562720" y="3657600"/>
            <a:ext cx="3581280" cy="249228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380880" y="6248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64832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public.doe.k12.ga.us/index.asp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http://brainfuel.tv/postimages/thatsalllogo.gif"/>
          <p:cNvPicPr/>
          <p:nvPr/>
        </p:nvPicPr>
        <p:blipFill>
          <a:blip r:embed="rId1"/>
          <a:stretch/>
        </p:blipFill>
        <p:spPr>
          <a:xfrm>
            <a:off x="1219320" y="270000"/>
            <a:ext cx="6362640" cy="65116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2209680" y="641196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brainfuel.tv/postimages/thatsalllogo.gi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0663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When a question asks you to round or estimate, you are being asked “about how many?”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Your approximate number will help you solve problems that maybe hard to solve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www.tangischools.org/TTMath/Clip%20art/math_estimate.gif"/>
          <p:cNvPicPr/>
          <p:nvPr/>
        </p:nvPicPr>
        <p:blipFill>
          <a:blip r:embed="rId2"/>
          <a:stretch/>
        </p:blipFill>
        <p:spPr>
          <a:xfrm>
            <a:off x="2438280" y="4324320"/>
            <a:ext cx="4143600" cy="25336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6629400" y="510552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www.tangischools.org/TTMath/Clip%20art/math_estimate.gi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When rounding to the nearest ten up to  100.  Your answer will be one of the  numbers below because they are multiples of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0, 10, 20, 30, 40, 50, 60, 70, 80, 90,100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The rule to rounding- 0, 1, 2, 3, 4- round down, 5, 6,7, 8, 9 – round up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6840" y="1447920"/>
            <a:ext cx="8458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ing this poem with the rule will also help you round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Find your numbe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Look right next doo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 or less just ignore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 or more, add 1 more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450880" y="60958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math.pppst.com/rounding.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 the po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Find your number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Look right next door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 or less just ignore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 or more, add 1 more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6248520" y="2743200"/>
            <a:ext cx="1523880" cy="1523880"/>
            <a:chOff x="6248520" y="2743200"/>
            <a:chExt cx="1523880" cy="1523880"/>
          </a:xfrm>
        </p:grpSpPr>
        <p:grpSp>
          <p:nvGrpSpPr>
            <p:cNvPr id="323" name="Group 6"/>
            <p:cNvGrpSpPr/>
            <p:nvPr/>
          </p:nvGrpSpPr>
          <p:grpSpPr>
            <a:xfrm>
              <a:off x="6248520" y="2743200"/>
              <a:ext cx="1523880" cy="1523880"/>
              <a:chOff x="6248520" y="2743200"/>
              <a:chExt cx="1523880" cy="1523880"/>
            </a:xfrm>
          </p:grpSpPr>
          <p:sp>
            <p:nvSpPr>
              <p:cNvPr id="324" name="Oval 3"/>
              <p:cNvSpPr/>
              <p:nvPr/>
            </p:nvSpPr>
            <p:spPr>
              <a:xfrm>
                <a:off x="6248520" y="2743200"/>
                <a:ext cx="871560" cy="1523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entury Gothic"/>
                  </a:rPr>
                  <a:t>2  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Box 5"/>
              <p:cNvSpPr/>
              <p:nvPr/>
            </p:nvSpPr>
            <p:spPr>
              <a:xfrm>
                <a:off x="7228080" y="3047760"/>
                <a:ext cx="544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entury Gothic"/>
                  </a:rPr>
                  <a:t>1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26" name="Straight Arrow Connector 8"/>
            <p:cNvCxnSpPr/>
            <p:nvPr/>
          </p:nvCxnSpPr>
          <p:spPr>
            <a:xfrm>
              <a:off x="6900840" y="3581280"/>
              <a:ext cx="491040" cy="21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</p:grpSp>
      <p:grpSp>
        <p:nvGrpSpPr>
          <p:cNvPr id="327" name="Group 12"/>
          <p:cNvGrpSpPr/>
          <p:nvPr/>
        </p:nvGrpSpPr>
        <p:grpSpPr>
          <a:xfrm>
            <a:off x="6400800" y="4495680"/>
            <a:ext cx="1371600" cy="1524240"/>
            <a:chOff x="6400800" y="4495680"/>
            <a:chExt cx="1371600" cy="1524240"/>
          </a:xfrm>
        </p:grpSpPr>
        <p:grpSp>
          <p:nvGrpSpPr>
            <p:cNvPr id="328" name="Group 6"/>
            <p:cNvGrpSpPr/>
            <p:nvPr/>
          </p:nvGrpSpPr>
          <p:grpSpPr>
            <a:xfrm>
              <a:off x="6400800" y="4495680"/>
              <a:ext cx="1371600" cy="1524240"/>
              <a:chOff x="6400800" y="4495680"/>
              <a:chExt cx="1371600" cy="1524240"/>
            </a:xfrm>
          </p:grpSpPr>
          <p:sp>
            <p:nvSpPr>
              <p:cNvPr id="329" name="Oval 15"/>
              <p:cNvSpPr/>
              <p:nvPr/>
            </p:nvSpPr>
            <p:spPr>
              <a:xfrm>
                <a:off x="6400800" y="4495680"/>
                <a:ext cx="784080" cy="1524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entury Gothic"/>
                  </a:rPr>
                  <a:t>2  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Box 16"/>
              <p:cNvSpPr/>
              <p:nvPr/>
            </p:nvSpPr>
            <p:spPr>
              <a:xfrm>
                <a:off x="7282440" y="4800240"/>
                <a:ext cx="489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entury Gothic"/>
                  </a:rPr>
                  <a:t>7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4"/>
            <p:cNvCxnSpPr/>
            <p:nvPr/>
          </p:nvCxnSpPr>
          <p:spPr>
            <a:xfrm>
              <a:off x="6988320" y="5334120"/>
              <a:ext cx="442080" cy="21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</p:grpSp>
      <p:sp>
        <p:nvSpPr>
          <p:cNvPr id="332" name="TextBox 17"/>
          <p:cNvSpPr/>
          <p:nvPr/>
        </p:nvSpPr>
        <p:spPr>
          <a:xfrm>
            <a:off x="7848720" y="2743200"/>
            <a:ext cx="129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0043"/>
                </a:solidFill>
                <a:latin typeface="Century Gothic"/>
              </a:rPr>
              <a:t>Round to   </a:t>
            </a:r>
            <a:r>
              <a:rPr b="0" lang="en-US" sz="6000" spc="-1" strike="noStrike">
                <a:solidFill>
                  <a:srgbClr val="ab0043"/>
                </a:solidFill>
                <a:latin typeface="Century Gothic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0043"/>
                </a:solidFill>
                <a:latin typeface="Century Gothic"/>
              </a:rPr>
              <a:t>Round to  </a:t>
            </a:r>
            <a:r>
              <a:rPr b="0" lang="en-US" sz="6000" spc="-1" strike="noStrike">
                <a:solidFill>
                  <a:srgbClr val="ab0043"/>
                </a:solidFill>
                <a:latin typeface="Century Gothic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34" name="Content Placeholder 3"/>
          <p:cNvGrpSpPr/>
          <p:nvPr/>
        </p:nvGrpSpPr>
        <p:grpSpPr>
          <a:xfrm>
            <a:off x="304920" y="4267080"/>
            <a:ext cx="8229600" cy="1402920"/>
            <a:chOff x="304920" y="4267080"/>
            <a:chExt cx="8229600" cy="1402920"/>
          </a:xfrm>
        </p:grpSpPr>
        <p:sp>
          <p:nvSpPr>
            <p:cNvPr id="335" name="Line 2"/>
            <p:cNvSpPr/>
            <p:nvPr/>
          </p:nvSpPr>
          <p:spPr>
            <a:xfrm>
              <a:off x="916200" y="4521600"/>
              <a:ext cx="729936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"/>
            <p:cNvSpPr/>
            <p:nvPr/>
          </p:nvSpPr>
          <p:spPr>
            <a:xfrm>
              <a:off x="1439280" y="50274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2132640" y="5027400"/>
              <a:ext cx="7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5"/>
            <p:cNvSpPr/>
            <p:nvPr/>
          </p:nvSpPr>
          <p:spPr>
            <a:xfrm>
              <a:off x="2826000" y="5027400"/>
              <a:ext cx="80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3492360" y="50310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4213800" y="50274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8"/>
            <p:cNvSpPr/>
            <p:nvPr/>
          </p:nvSpPr>
          <p:spPr>
            <a:xfrm>
              <a:off x="4923720" y="503100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5600520" y="5027400"/>
              <a:ext cx="7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6293880" y="5027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988680" y="5027400"/>
              <a:ext cx="7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>
              <a:off x="7643160" y="469152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4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3"/>
            <p:cNvSpPr/>
            <p:nvPr/>
          </p:nvSpPr>
          <p:spPr>
            <a:xfrm>
              <a:off x="15109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4"/>
            <p:cNvSpPr/>
            <p:nvPr/>
          </p:nvSpPr>
          <p:spPr>
            <a:xfrm>
              <a:off x="220428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2919960" y="428796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6"/>
            <p:cNvSpPr/>
            <p:nvPr/>
          </p:nvSpPr>
          <p:spPr>
            <a:xfrm>
              <a:off x="35906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7"/>
            <p:cNvSpPr/>
            <p:nvPr/>
          </p:nvSpPr>
          <p:spPr>
            <a:xfrm>
              <a:off x="42854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"/>
            <p:cNvSpPr/>
            <p:nvPr/>
          </p:nvSpPr>
          <p:spPr>
            <a:xfrm>
              <a:off x="497880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9"/>
            <p:cNvSpPr/>
            <p:nvPr/>
          </p:nvSpPr>
          <p:spPr>
            <a:xfrm>
              <a:off x="567216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0"/>
            <p:cNvSpPr/>
            <p:nvPr/>
          </p:nvSpPr>
          <p:spPr>
            <a:xfrm>
              <a:off x="63655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1"/>
            <p:cNvSpPr/>
            <p:nvPr/>
          </p:nvSpPr>
          <p:spPr>
            <a:xfrm>
              <a:off x="7060320" y="4267080"/>
              <a:ext cx="39492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3"/>
            <p:cNvSpPr/>
            <p:nvPr/>
          </p:nvSpPr>
          <p:spPr>
            <a:xfrm>
              <a:off x="304920" y="494604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3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 the po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36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7" name="Straight Arrow Connector 27"/>
          <p:cNvCxnSpPr/>
          <p:nvPr/>
        </p:nvCxnSpPr>
        <p:spPr>
          <a:xfrm flipH="1">
            <a:off x="5180760" y="3735000"/>
            <a:ext cx="2520" cy="686520"/>
          </a:xfrm>
          <a:prstGeom prst="straightConnector1">
            <a:avLst/>
          </a:prstGeom>
          <a:ln w="38160">
            <a:solidFill>
              <a:srgbClr val="e40059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59" name="Content Placeholder 3"/>
          <p:cNvGrpSpPr/>
          <p:nvPr/>
        </p:nvGrpSpPr>
        <p:grpSpPr>
          <a:xfrm>
            <a:off x="304920" y="4267080"/>
            <a:ext cx="8229600" cy="1402920"/>
            <a:chOff x="304920" y="4267080"/>
            <a:chExt cx="8229600" cy="1402920"/>
          </a:xfrm>
        </p:grpSpPr>
        <p:sp>
          <p:nvSpPr>
            <p:cNvPr id="360" name="Line 2"/>
            <p:cNvSpPr/>
            <p:nvPr/>
          </p:nvSpPr>
          <p:spPr>
            <a:xfrm>
              <a:off x="916200" y="4521600"/>
              <a:ext cx="729936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3"/>
            <p:cNvSpPr/>
            <p:nvPr/>
          </p:nvSpPr>
          <p:spPr>
            <a:xfrm>
              <a:off x="1439280" y="50274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2132640" y="5027400"/>
              <a:ext cx="7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2826000" y="5027400"/>
              <a:ext cx="80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3492360" y="50310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4213800" y="50274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923720" y="503100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9"/>
            <p:cNvSpPr/>
            <p:nvPr/>
          </p:nvSpPr>
          <p:spPr>
            <a:xfrm>
              <a:off x="5600520" y="5027400"/>
              <a:ext cx="7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6293880" y="5027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6988680" y="5027400"/>
              <a:ext cx="7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7643160" y="469152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4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5109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220428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2919960" y="428796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6"/>
            <p:cNvSpPr/>
            <p:nvPr/>
          </p:nvSpPr>
          <p:spPr>
            <a:xfrm>
              <a:off x="35906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7"/>
            <p:cNvSpPr/>
            <p:nvPr/>
          </p:nvSpPr>
          <p:spPr>
            <a:xfrm>
              <a:off x="42854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8"/>
            <p:cNvSpPr/>
            <p:nvPr/>
          </p:nvSpPr>
          <p:spPr>
            <a:xfrm>
              <a:off x="497880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9"/>
            <p:cNvSpPr/>
            <p:nvPr/>
          </p:nvSpPr>
          <p:spPr>
            <a:xfrm>
              <a:off x="567216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0"/>
            <p:cNvSpPr/>
            <p:nvPr/>
          </p:nvSpPr>
          <p:spPr>
            <a:xfrm>
              <a:off x="63655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1"/>
            <p:cNvSpPr/>
            <p:nvPr/>
          </p:nvSpPr>
          <p:spPr>
            <a:xfrm>
              <a:off x="7060320" y="4267080"/>
              <a:ext cx="39492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23"/>
            <p:cNvSpPr/>
            <p:nvPr/>
          </p:nvSpPr>
          <p:spPr>
            <a:xfrm>
              <a:off x="304920" y="494604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3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36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he nearest ten to 36 is 40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traight Arrow Connector 27"/>
          <p:cNvCxnSpPr/>
          <p:nvPr/>
        </p:nvCxnSpPr>
        <p:spPr>
          <a:xfrm flipH="1">
            <a:off x="5180760" y="3735000"/>
            <a:ext cx="2520" cy="686520"/>
          </a:xfrm>
          <a:prstGeom prst="straightConnector1">
            <a:avLst/>
          </a:prstGeom>
          <a:ln w="38160">
            <a:solidFill>
              <a:srgbClr val="e40059"/>
            </a:solidFill>
            <a:miter/>
            <a:tailEnd len="med" type="arrow" w="med"/>
          </a:ln>
        </p:spPr>
      </p:cxnSp>
      <p:sp>
        <p:nvSpPr>
          <p:cNvPr id="383" name="Oval 26"/>
          <p:cNvSpPr/>
          <p:nvPr/>
        </p:nvSpPr>
        <p:spPr>
          <a:xfrm>
            <a:off x="7620120" y="3886200"/>
            <a:ext cx="761760" cy="1600200"/>
          </a:xfrm>
          <a:prstGeom prst="ellipse">
            <a:avLst/>
          </a:prstGeom>
          <a:noFill/>
          <a:ln w="7632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85" name="Content Placeholder 25"/>
          <p:cNvGrpSpPr/>
          <p:nvPr/>
        </p:nvGrpSpPr>
        <p:grpSpPr>
          <a:xfrm>
            <a:off x="457200" y="4343400"/>
            <a:ext cx="8229600" cy="1368360"/>
            <a:chOff x="457200" y="4343400"/>
            <a:chExt cx="8229600" cy="1368360"/>
          </a:xfrm>
        </p:grpSpPr>
        <p:sp>
          <p:nvSpPr>
            <p:cNvPr id="386" name="Line 5"/>
            <p:cNvSpPr/>
            <p:nvPr/>
          </p:nvSpPr>
          <p:spPr>
            <a:xfrm>
              <a:off x="896040" y="458640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1431360" y="506916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7"/>
            <p:cNvSpPr/>
            <p:nvPr/>
          </p:nvSpPr>
          <p:spPr>
            <a:xfrm>
              <a:off x="2140200" y="506916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8"/>
            <p:cNvSpPr/>
            <p:nvPr/>
          </p:nvSpPr>
          <p:spPr>
            <a:xfrm>
              <a:off x="2849040" y="506916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9"/>
            <p:cNvSpPr/>
            <p:nvPr/>
          </p:nvSpPr>
          <p:spPr>
            <a:xfrm>
              <a:off x="3530520" y="507276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0"/>
            <p:cNvSpPr/>
            <p:nvPr/>
          </p:nvSpPr>
          <p:spPr>
            <a:xfrm>
              <a:off x="4268520" y="506916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1"/>
            <p:cNvSpPr/>
            <p:nvPr/>
          </p:nvSpPr>
          <p:spPr>
            <a:xfrm>
              <a:off x="4994280" y="507276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2"/>
            <p:cNvSpPr/>
            <p:nvPr/>
          </p:nvSpPr>
          <p:spPr>
            <a:xfrm>
              <a:off x="5686560" y="506916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13"/>
            <p:cNvSpPr/>
            <p:nvPr/>
          </p:nvSpPr>
          <p:spPr>
            <a:xfrm>
              <a:off x="6395400" y="506916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4"/>
            <p:cNvSpPr/>
            <p:nvPr/>
          </p:nvSpPr>
          <p:spPr>
            <a:xfrm>
              <a:off x="7106040" y="506916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5"/>
            <p:cNvSpPr/>
            <p:nvPr/>
          </p:nvSpPr>
          <p:spPr>
            <a:xfrm>
              <a:off x="7775280" y="4748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6"/>
            <p:cNvSpPr/>
            <p:nvPr/>
          </p:nvSpPr>
          <p:spPr>
            <a:xfrm>
              <a:off x="15044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7"/>
            <p:cNvSpPr/>
            <p:nvPr/>
          </p:nvSpPr>
          <p:spPr>
            <a:xfrm>
              <a:off x="22132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8"/>
            <p:cNvSpPr/>
            <p:nvPr/>
          </p:nvSpPr>
          <p:spPr>
            <a:xfrm>
              <a:off x="2945160" y="436356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9"/>
            <p:cNvSpPr/>
            <p:nvPr/>
          </p:nvSpPr>
          <p:spPr>
            <a:xfrm>
              <a:off x="363132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20"/>
            <p:cNvSpPr/>
            <p:nvPr/>
          </p:nvSpPr>
          <p:spPr>
            <a:xfrm>
              <a:off x="434196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505080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22"/>
            <p:cNvSpPr/>
            <p:nvPr/>
          </p:nvSpPr>
          <p:spPr>
            <a:xfrm>
              <a:off x="57596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23"/>
            <p:cNvSpPr/>
            <p:nvPr/>
          </p:nvSpPr>
          <p:spPr>
            <a:xfrm>
              <a:off x="64684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24"/>
            <p:cNvSpPr/>
            <p:nvPr/>
          </p:nvSpPr>
          <p:spPr>
            <a:xfrm>
              <a:off x="7179120" y="434340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26"/>
            <p:cNvSpPr/>
            <p:nvPr/>
          </p:nvSpPr>
          <p:spPr>
            <a:xfrm>
              <a:off x="457200" y="4991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74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8" name="Straight Arrow Connector 50"/>
          <p:cNvCxnSpPr/>
          <p:nvPr/>
        </p:nvCxnSpPr>
        <p:spPr>
          <a:xfrm>
            <a:off x="3809880" y="3580920"/>
            <a:ext cx="2448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2:19:16Z</dcterms:created>
  <dc:creator>Administrator</dc:creator>
  <dc:description/>
  <dc:language>en-US</dc:language>
  <cp:lastModifiedBy>Administrator</cp:lastModifiedBy>
  <dcterms:modified xsi:type="dcterms:W3CDTF">2010-10-17T15:06:27Z</dcterms:modified>
  <cp:revision>15</cp:revision>
  <dc:subject/>
  <dc:title>Slide 1</dc:title>
</cp:coreProperties>
</file>